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778-D688-4764-ABCB-C6D1ABE5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411-1A59-4A3C-A9CE-A19A0B3C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D33-BD59-47B2-AB08-2F742D6F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5BD-233E-4CDA-84C0-B78B2C7E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7EC-9536-45DF-924C-A5EE6D8F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04B-4DA8-4037-A88D-2A73FCB9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7246-BBAD-4CAF-B333-526C202D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7C3A-4E87-49F3-85B9-60E4A12E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515-A6D6-4DCF-9848-9FAC1DBE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2D97-5582-414B-B2EE-E7B2187F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14B5-B45A-4852-8A0E-FDFA5DA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908-5EF2-4CDD-A61C-58BFE45F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6D80-DB8D-4D0A-98D2-FF01263C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2E7B-22B4-47D6-B54B-A6465C86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BB45-0DEB-49AE-8DEB-1371F0FF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5BD7-AB6F-4E68-80F4-AF44D479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1110-9471-4C8D-9E59-648391D8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AE5-1CE8-4B51-9B67-92F24328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907-F769-4076-8E50-669636F5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556-AF0E-4FE5-A4D3-0BA114BD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6F7D-8EBB-433C-8735-0AEDC3D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37E-4775-4C65-AA1D-CC193FC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0D0-B2E3-4D62-B431-A4CD6F83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B8B-C6D8-4CE9-B180-62296282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0C8A-7E24-4BCB-B81E-3FCDDFA3622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D00B-FCC5-4D38-A0DC-E5E8BDCF0F8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rcRect l="36855" t="12844" r="35250" b="43012"/>
          <a:stretch/>
        </p:blipFill>
        <p:spPr>
          <a:xfrm>
            <a:off x="4038480" y="533520"/>
            <a:ext cx="587520" cy="585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роект бюджета Новоминского сельского поселения Каневского района на 2019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609480"/>
            <a:ext cx="8228880" cy="5499000"/>
            <a:chOff x="457200" y="609480"/>
            <a:chExt cx="8228880" cy="5499000"/>
          </a:xfrm>
        </p:grpSpPr>
        <p:cxnSp>
          <p:nvCxnSpPr>
            <p:cNvPr id="159" name="_s718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461200" y="191808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7181"/>
            <p:cNvCxnSpPr>
              <a:stCxn id="163" idx="0"/>
              <a:endCxn id="161" idx="2"/>
            </p:cNvCxnSpPr>
            <p:nvPr/>
          </p:nvCxnSpPr>
          <p:spPr>
            <a:xfrm flipV="1">
              <a:off x="4571280" y="2808360"/>
              <a:ext cx="3240" cy="110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718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581200" y="191844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1" name="_s7176"/>
            <p:cNvSpPr/>
            <p:nvPr/>
          </p:nvSpPr>
          <p:spPr>
            <a:xfrm>
              <a:off x="3337200" y="6094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Основа формирова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бюджета Новомин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на 2019 годы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177"/>
            <p:cNvSpPr/>
            <p:nvPr/>
          </p:nvSpPr>
          <p:spPr>
            <a:xfrm>
              <a:off x="45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но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оциально-экономи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звития Новомин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178"/>
            <p:cNvSpPr/>
            <p:nvPr/>
          </p:nvSpPr>
          <p:spPr>
            <a:xfrm>
              <a:off x="333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Основные направ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Бюджет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и налоговой политики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на 2019 годы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7179"/>
            <p:cNvSpPr/>
            <p:nvPr/>
          </p:nvSpPr>
          <p:spPr>
            <a:xfrm>
              <a:off x="621756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Муниципаль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рамм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Канев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сновные параметры проекта бюджета Новоминского сельского поселения на 2019 год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600200"/>
          <a:ext cx="6629400" cy="469260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о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налоговые и неналоговые дох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9885,1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безвозмездные поступл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0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в том числе дотация на выравнивание бюджетной обеспеч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Рас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ефицит (-), профицит (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ъем налоговых и неналоговых доходов бюджета Новоминского сельского поселения на 2018 год составил 39885,1 тыс. рубле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 на доходы физических лиц – 1560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кцизы по подакцизным товарам (продукции), производимым на территории Российской Федерации  - 5015,1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ЕСХН –119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и на имущество – 18080,0 тыс.руб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емельный налог -1525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бщий объем расходов на 2019 год – 11496,3 тыс. рубл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щегосударственные вопросы- 8831,7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оборона – 608,1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безопасность и правоохранительная деятельность – 1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экономика – 8955,8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Жилищно-коммунальное хозяйство – 40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разование – 83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ультура, кинематография – 22880,3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циальная политика – 290,6 тыс.руб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изическая культура и спорт – 2235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служивание государственного и муниципального долга – 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6:27:46Z</dcterms:created>
  <dc:creator>Пользователь</dc:creator>
  <dc:description/>
  <dc:language>en-US</dc:language>
  <cp:lastModifiedBy>ГЫУК</cp:lastModifiedBy>
  <dcterms:modified xsi:type="dcterms:W3CDTF">2019-10-18T06:28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